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689E-79BA-4CC8-B06F-1ECEC341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9DA-5A1E-49B4-A6AF-6C6EB132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1B5-F7F0-498A-8665-189E9C03A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F78-8341-4687-B40B-F3591AF5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902-D80D-47B8-AAAB-ED30893B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092-5759-4872-A405-C1094CF0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A09C-2988-4C24-B955-4B3194C3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C45E-8101-4A9E-A45C-BA3D3666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FC01-A9D5-4DB7-B45A-9FD089580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577B-4FA7-45CB-891A-70A0A809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971E-296E-4C81-B8FB-A8B81299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BA7-0AEE-41AE-9BD1-F086A6D2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D7D9-A6D6-4000-9F8B-2EB746038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52600" y="50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66cc"/>
                </a:solidFill>
                <a:latin typeface="Arial"/>
              </a:rPr>
              <a:t>DB’s cream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6200" y="5298840"/>
            <a:ext cx="702324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It’s a cream that will make your dre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703680" y="2517840"/>
            <a:ext cx="27525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